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3.png" ContentType="image/png"/>
  <Override PartName="/ppt/media/image4.png" ContentType="image/png"/>
  <Override PartName="/ppt/media/image5.jpeg" ContentType="image/jpeg"/>
  <Override PartName="/ppt/media/image26.jpeg" ContentType="image/jpeg"/>
  <Override PartName="/ppt/media/image27.jpeg" ContentType="image/jpeg"/>
  <Override PartName="/ppt/media/image8.png" ContentType="image/png"/>
  <Override PartName="/ppt/media/image11.jpeg" ContentType="image/jpeg"/>
  <Override PartName="/ppt/media/image13.png" ContentType="image/png"/>
  <Override PartName="/ppt/media/image7.png" ContentType="image/png"/>
  <Override PartName="/ppt/media/image22.jpeg" ContentType="image/jpeg"/>
  <Override PartName="/ppt/media/image9.png" ContentType="image/png"/>
  <Override PartName="/ppt/media/image20.jpeg" ContentType="image/jpeg"/>
  <Override PartName="/ppt/media/image30.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png" ContentType="image/png"/>
  <Override PartName="/ppt/media/image6.jpeg" ContentType="image/jpeg"/>
  <Override PartName="/ppt/media/image18.png" ContentType="image/png"/>
  <Override PartName="/ppt/media/image28.jpeg" ContentType="image/jpeg"/>
  <Override PartName="/ppt/media/image19.jpeg" ContentType="image/jpeg"/>
  <Override PartName="/ppt/media/image12.png" ContentType="image/png"/>
  <Override PartName="/ppt/media/image2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A7D2-F1EF-4C03-9B3A-678AE6758B12}"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329B-F575-4FE6-9F69-920B9FD38C0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003F-18C4-4700-9AA0-24A287B153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have the team identify the source around which the statement is made. The source is </a:t>
            </a:r>
            <a:r>
              <a:rPr b="0" i="1" lang="en-US" sz="1200" spc="-1" strike="noStrike">
                <a:solidFill>
                  <a:srgbClr val="000000"/>
                </a:solidFill>
                <a:latin typeface="Calibri"/>
              </a:rPr>
              <a:t>The Cather in the Rye. Then have the team determine if the statement is a claim.</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2C75-778A-4A4D-9DC7-57ECB0812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no. The author uses many devices, including stream of consciousness and flashbacks to show Holden’s fragile stat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1C3F-6357-4F5E-9739-4FA38C3FFE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5AEC-AD51-415F-B682-108CB92489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26E51-7DC0-4E5E-86E7-38D36EC02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Give your team time to review the types of claims and review the examples.  </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6085-DE23-4AC3-AB8D-F14DF8A62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Please allow teachers to read this slide.  Share that the next set of slides will focus on counterclaims. For each claim that is provided, ask teachers to construct aloud possible counterclaim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A0C23-794C-4E0A-AD25-F8C39E4A3D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When a thesis is a claim, it is apparent that there are opposing viewpoints or counterclaims. Let’s consider possible counterclaims.  Have teachers share possible counterclaims aloud. Possible answers- pressure to follow familial traditions, lack of communication, immaturity </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7B205-9351-4E75-ABB7-987672742D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Team Leader:  Possible answers- The Highwayman is the winner because he gets to live knowing how much Bess loves him. Tim wins because he nor The Highwayman get the girl-they are finally equal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2966-B5ED-4AF7-A425-F1164C103F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a:t>
            </a:r>
            <a:r>
              <a:rPr b="0" lang="en-US" sz="1200" spc="-1" strike="noStrike">
                <a:solidFill>
                  <a:srgbClr val="000000"/>
                </a:solidFill>
                <a:latin typeface="Calibri"/>
              </a:rPr>
              <a:t>: “ Each claim that we have discussed requires a response to a text, text such as the ones that appear here. Types of texts include poems, plays, speeches, novels, essay, research about career choices, short stories such as the ones in this slide. “Write to Source” means that students write a response based on something that they see, read, and hear--diverse media (video clipping, audio clip, direct Internet source).   Now, you can see why we identified the titles of the texts around which the claims were written in the previous slide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8121-8FE5-4CFE-AC1B-0FE2C755A7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al Team Leader</a:t>
            </a:r>
            <a:r>
              <a:rPr b="0" lang="en-US" sz="1200" spc="-1" strike="noStrike">
                <a:solidFill>
                  <a:srgbClr val="000000"/>
                </a:solidFill>
                <a:latin typeface="Calibri"/>
              </a:rPr>
              <a:t>:  “The sample assignments include, in all but one case, authentic student responses which were written by a Howard County student. Remember that the samples in the Common Core Appendix C document includes rough drafts or first drafts of student writings.  Our HCPSS student responses also are rough or first drafts that have not been edited.  Additionally, we have included annotated information in the samples identifying claims, evidence, counterclaims as does the Common Core Appendix C.</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E5DF-3A6D-42CB-BC21-58E82DE4A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a:t>
            </a:r>
            <a:r>
              <a:rPr b="0" lang="en-US" sz="1200" spc="-1" strike="noStrike">
                <a:solidFill>
                  <a:srgbClr val="ff0000"/>
                </a:solidFill>
                <a:latin typeface="Times New Roman"/>
                <a:ea typeface="Times New Roman"/>
              </a:rPr>
              <a:t>  “</a:t>
            </a:r>
            <a:r>
              <a:rPr b="0" lang="en-US" sz="1200" spc="-1" strike="noStrike">
                <a:solidFill>
                  <a:srgbClr val="000000"/>
                </a:solidFill>
                <a:latin typeface="Times New Roman"/>
                <a:ea typeface="Times New Roman"/>
              </a:rPr>
              <a:t>In addition to NC, 47 other states are committed to the College and Career Readiness (CCR) anchor standards for writing, as well as the anchor standards for Reading, Language, and Speaking and Listening.”  </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9A59-609E-4BC3-8AE3-DAEAA40D1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The next set of slides will answer this question for you.</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F163-FBBC-4127-8AEC-A1C5385CA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66B3-38E7-4A9E-A7DA-EC029F6553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Here is an article which appeared this month in the Parade magazine. It is so relevant. In the article the writer makes an argument for returning to the summer vacation concept from the past where students did very little and just enjoyed the summer. If someone is interested in using the actual essay, the link is provided.  </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7950-896E-4C92-8CD2-486B348EBB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This essay is fairly recent, and it demonstrates the presence of argument writing in today’s world and the components of effective argument writing.  Students should not assume that college teachers will even use the terms associated with argument writing when issuing writing assignments. If students have learned how to develop an argument, they will be prepared to develop an argument essay whether the assignment explicitly states to build an argument.</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9936-6A4B-47C5-A24C-815985658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allow teachers to discuss the background information the writer provide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5224-423B-4366-93B9-92A3FD96F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help teachers see that the writer develops his argument explaining specific benefits for fun-filled summers.</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DF7A-6526-450A-997D-886C9614F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lead team in a discussion how the writer addresses and dismisses the counterclaim.</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7289-BC48-48E1-AA77-2E06D087F2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please lead a discussion about the effectiveness of his conclusion which does more than summarize what he has has already said.</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1677-E274-4A8C-B14C-E512E1156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FEA7-D003-429C-AB6E-60A8A3F5C0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4DD8-B2D8-4935-89FE-31F03B129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a:t>
            </a:r>
            <a:r>
              <a:rPr b="0" lang="en-US" sz="1200" spc="-1" strike="noStrike">
                <a:solidFill>
                  <a:srgbClr val="ff0000"/>
                </a:solidFill>
                <a:latin typeface="Times New Roman"/>
                <a:ea typeface="Times New Roman"/>
              </a:rPr>
              <a:t>“Whether a student is writing an explanatory essay or an argument essay, the thesis statement serves as the “umbrella” around which main points are developed.  When that thesis statement is debatable such as “which comes first, the chicken or the egg,” that thesis is called a claim.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20A3-37C0-4E08-893C-3F14A518CE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Leader:  Please lead your team in the next activity. The top portion of each slide identifies the source around which the claim is generat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t>
            </a:r>
            <a:r>
              <a:rPr b="0" lang="en-US" sz="1200" spc="-1" strike="noStrike">
                <a:solidFill>
                  <a:srgbClr val="ff0000"/>
                </a:solidFill>
                <a:latin typeface="Times New Roman"/>
                <a:ea typeface="Times New Roman"/>
              </a:rPr>
              <a:t>A statement will appear in the next set of slides.  After each statement,  a slide appears with the answer as to whether or not the statement is an argument claim or not.  This happens two times. “</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401E-641A-4D58-B69D-F5A3173D61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make certain that teachers identify </a:t>
            </a:r>
            <a:r>
              <a:rPr b="1" i="1" lang="en-US" sz="1200" spc="-1" strike="noStrike">
                <a:solidFill>
                  <a:srgbClr val="000000"/>
                </a:solidFill>
                <a:latin typeface="Calibri"/>
              </a:rPr>
              <a:t>Native Son </a:t>
            </a:r>
            <a:r>
              <a:rPr b="1" lang="en-US" sz="1200" spc="-1" strike="noStrike">
                <a:solidFill>
                  <a:srgbClr val="000000"/>
                </a:solidFill>
                <a:latin typeface="Calibri"/>
              </a:rPr>
              <a:t>as the source to which the student is responding</a:t>
            </a:r>
            <a:r>
              <a:rPr b="1" i="1" lang="en-US" sz="1200" spc="-1" strike="noStrike">
                <a:solidFill>
                  <a:srgbClr val="000000"/>
                </a:solidFill>
                <a:latin typeface="Calibri"/>
              </a:rPr>
              <a:t>.</a:t>
            </a:r>
            <a:r>
              <a:rPr b="0" i="1" lang="en-US" sz="1200" spc="-1" strike="noStrike">
                <a:solidFill>
                  <a:srgbClr val="000000"/>
                </a:solidFill>
                <a:latin typeface="Calibri"/>
              </a:rPr>
              <a:t> </a:t>
            </a:r>
            <a:r>
              <a:rPr b="0" lang="en-US" sz="1200" spc="-1" strike="noStrike">
                <a:solidFill>
                  <a:srgbClr val="000000"/>
                </a:solidFill>
                <a:latin typeface="Calibri"/>
              </a:rPr>
              <a:t>Instruct your team to </a:t>
            </a:r>
            <a:r>
              <a:rPr b="0" i="1" lang="en-US" sz="1200" spc="-1" strike="noStrike">
                <a:solidFill>
                  <a:srgbClr val="000000"/>
                </a:solidFill>
                <a:latin typeface="Calibri"/>
              </a:rPr>
              <a:t>read the statement and determine if the statement is a claim.</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6F4F-635D-4FC3-A89F-4855327197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rect response is ye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AEFD-0A8E-4ECE-B8FE-82A4843741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 please have the team identify the source around which the statement is built.  The sources are the two poems. Next, have the team determine if the statement is a claim or not.</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52EE-8876-411E-9AAB-EB5104F447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statement is not a claim.  There is nothing here is argue.</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1803-1F49-43EF-9439-6E9B6C7E9C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2C64A-D96C-4312-BB70-E4230D072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4B333-34CA-48DD-AEB2-361F039A5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6755D-C5F4-44AD-B002-BCD579F4F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89E7E-5358-4989-A09C-CA0C98124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E0402-E39F-4E86-9BCB-B6730E212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057A1-711E-4E79-870F-E605468CD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3B3BB-F966-422E-98EA-B10379E71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CAE93-BCDA-4135-A994-C19C61E77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7A667-C185-4FCE-90B9-DE5DBB4FC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83B3C-4D45-4A23-93F6-6E36A3E0D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C98D6-596C-4F2E-83B8-4FEF4496E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1C4C4-EFC1-4DDE-8551-8A6E30220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6A369-A3BB-4D37-9651-75ED0D5FF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6D5F1-698C-4BD5-AF98-E131C7C3B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52D1C-F9C9-4782-BC50-1BAE46724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CB66E-82D5-400C-AEBB-8353051F6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6BACA-2857-4CF2-A190-B0E5EF36F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00C8A-835E-42DE-93B8-BE42C9D2D6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453B8-A9D2-4A7C-94B1-582FB0270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0B27BE-7E7D-4A2F-B248-7687C5889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9943D-1AB4-41F7-965D-02A59BE4E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A89425-DCB7-424F-A221-8F076B1AB7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1667E-51CB-422B-8DE7-A925E86C8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A3A588-8315-4C1B-9DB4-2C3B768B5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2159C5-A1C2-4C14-A1EF-D4749A400A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0C357-A725-4A2A-A905-C956695FE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04551E-4CE0-4546-9C17-69DA31390E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91270D-095F-40DE-9F57-54E541A69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66E750-4788-41AA-B675-559F261180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8F3062-2E6B-41B5-AC06-EB8C55E9A2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31C6A4-F1C6-4FFA-B9F5-47E8EDF972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2EEEA4-6FCC-4954-BAD0-4EA4A14870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FF6E96-CED4-4170-A4BD-87892B4521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86617-C9B6-4499-9879-07B3D79B3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0B463-4AD5-4DC2-AD2B-4E325C7827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71A2A-0E75-4D9F-B292-4E95EC1685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0911C1-F184-4E65-83D0-852A5B171D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048BB-67D8-4822-B141-403FE483C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3513D8-F742-4B5B-A7D0-6C688F9FD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257A97-C1AC-4D3D-BF56-D6002661D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20A78-A4E9-4BF3-9954-CBAABB067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69E455-FEC4-4200-9B4D-25CED74301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AE868-83A7-41F2-A922-95E6349D60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476514-D114-473B-9254-BFAE39DFB7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D0358-5BE3-4229-8C90-CDE6A31FC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9C6CAC-9416-484F-971A-D2C44F50BB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140EF2-5E95-4F1A-8904-817CB1CE89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8E0448-06D3-458A-A002-62192460A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A4AADF-8C51-4C8F-BECE-B991C34381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B14F3-1235-4855-8F17-AA707928C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73231-4360-45EA-9085-0EBCD4AD8A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8EDB0-2239-43D2-9F9E-0CB4904B7A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08CCC-FB32-4672-B078-13D100E52A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D384D-DFA4-4BA4-8C91-F491363C7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A99E34-E05B-4AA3-87F6-8623713F6C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280CB-8F5B-4E12-BAA2-1156DFE50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CF2531-51E3-4DB2-9A84-D74AB10EFC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6EE711-5791-4F95-A3DB-06B1049F2A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3F8121-1249-44E7-A2ED-648DE61AB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5CA0B-42D2-4216-805F-C96E9C0DF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9F401-67C1-4BA2-ACAC-C959B77A8D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2C906-AC67-4B81-86EA-F832A0ECEA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94CB82-8192-40D6-85E6-D594328B1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95E8D-5626-4C04-A034-1AD286645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C058A9-D596-4A7C-95D0-9E2D03D144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124215-F1D4-4F9B-8DC6-1EB29ADE5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21BA-FD24-4971-88E3-7AC26A48F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5A0940-9993-4978-984F-13BF05321E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BD03FD-0EFF-41E2-9783-55342328A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8BDC4B-66AE-46A9-A28A-0A8B80CA7E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BD6250-7D19-4E03-BBBF-7168263010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E9269C-0669-438C-9EBC-FE2E493C2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AC301C-8A61-4EB3-9C84-8D267FF07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52365-43C6-41BC-B5CB-5C1EF41B51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10E9C-58E8-438F-AD52-0EC91F6889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82AFFC-59F3-4C31-8E68-18D72A6C83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D74A25-4B73-4B0C-AD2C-34FA790A1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2492-2518-48DA-AF91-9EFEFB17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1AD330-D04E-400A-8594-06A488411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5FA24C-D60E-4822-B81F-F9E1A55E8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37FF37-EADE-4206-9A47-8EB12C82CD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599073-FE51-407D-8988-AFA8ED0DE9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2D24D8-76D5-464A-8833-67B1F0FBDC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D2B3CF-EDD3-404C-A20A-193AF588FA1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5CF31F-802C-4559-BD39-B18A881A50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E9365F-4D51-466B-9AB2-E974703536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8B55E3-5632-4014-9132-2B7B08193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E2F58-665F-4BFB-9F73-E4B27DF80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4C034-4634-46EF-B631-4DB969AD1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43670-0CB2-4E85-8B8D-825FC7F1A5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BE653-372C-450B-8B9B-DF331E76D2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C2214A-5C7C-44CD-8FF3-047B1C6FE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4736B5-AA6F-4CBB-B5A3-467F752F3F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D4A3B-7904-4160-9A6F-0D31A73275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4D94EC-8AF5-4DE6-AF64-80686ADF1F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D170E4-F5B3-46C4-983A-E9E4A8A1603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34B6-51E8-4B88-9203-F8A86D81ADB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1534-CA04-4C85-9DBB-4292838519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48055-6B1F-42D0-9615-4218BA09F136}"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0E2C-C14F-4413-923C-234307570AC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F5F2-1E10-4A4D-9E88-CB48F70284E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8D09-6C09-4994-B7BF-485E95ED18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DD392-072F-47DB-8122-16FC381FA68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B4AB-B2F0-4999-A844-9F882CAB41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6968-F980-42B2-B762-E2B1D5AF59B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EB17-1F6E-4D4F-BE01-5BE9FA029C6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91D9D-5E6D-458B-877D-8623E9EA83D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32AF-8134-4A93-8C7F-155B431CDA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3046-C051-455D-AEB5-D7E2C2F63BD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7063A-64C6-4A8D-8664-4729CFE9C9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270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E5D1-ED9D-4FAB-93BA-407E8ED9233F}"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5DDB6-9E56-4359-B879-2484840FD71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slideLayout" Target="../slideLayouts/slideLayout1.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parade.com/news/views/mitch-albom/110807-the-joys-of-summer.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9040" y="1755720"/>
            <a:ext cx="8083440" cy="22129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Times New Roman"/>
                <a:ea typeface="Times New Roman"/>
              </a:rPr>
              <a:t>A Resource for Secondary English and Reading Teachers</a:t>
            </a:r>
            <a:endParaRPr b="0" lang="en-US" sz="2400" spc="-1" strike="noStrike">
              <a:solidFill>
                <a:srgbClr val="000000"/>
              </a:solidFill>
              <a:latin typeface="Lucida Sans Unicode"/>
            </a:endParaRPr>
          </a:p>
        </p:txBody>
      </p:sp>
      <p:pic>
        <p:nvPicPr>
          <p:cNvPr id="379" name="Picture 5" descr="http://school.discoveryeducation.com/clipart/images/writing.gif"/>
          <p:cNvPicPr/>
          <p:nvPr/>
        </p:nvPicPr>
        <p:blipFill>
          <a:blip r:embed="rId2"/>
          <a:stretch/>
        </p:blipFill>
        <p:spPr>
          <a:xfrm>
            <a:off x="5257800" y="69840"/>
            <a:ext cx="3686040" cy="26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990720" y="205740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D. Salinger’s writing style in </a:t>
            </a:r>
            <a:r>
              <a:rPr b="0" i="1" lang="en-US" sz="2800" spc="-1" strike="noStrike">
                <a:solidFill>
                  <a:srgbClr val="000000"/>
                </a:solidFill>
                <a:latin typeface="Times New Roman"/>
                <a:ea typeface="Times New Roman"/>
              </a:rPr>
              <a:t>The Catcher in Rye </a:t>
            </a:r>
            <a:r>
              <a:rPr b="0" lang="en-US" sz="2800" spc="-1" strike="noStrike">
                <a:solidFill>
                  <a:srgbClr val="000000"/>
                </a:solidFill>
                <a:latin typeface="Times New Roman"/>
                <a:ea typeface="Times New Roman"/>
              </a:rPr>
              <a:t>allows the reader to understand both the emotional and physical state of fragile Holden Caulfield.</a:t>
            </a:r>
            <a:endParaRPr b="0" lang="en-US" sz="2800" spc="-1" strike="noStrike">
              <a:solidFill>
                <a:srgbClr val="000000"/>
              </a:solidFill>
              <a:latin typeface="Arial"/>
            </a:endParaRPr>
          </a:p>
        </p:txBody>
      </p:sp>
      <p:pic>
        <p:nvPicPr>
          <p:cNvPr id="403"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Box 1"/>
          <p:cNvSpPr/>
          <p:nvPr/>
        </p:nvSpPr>
        <p:spPr>
          <a:xfrm>
            <a:off x="609480" y="2057400"/>
            <a:ext cx="834552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s is not a debatable statement since the author does use literary devices to illustrate Holden’s emotional and physical fragile state. This statement would be better suited for an explanatory response-  not an argument respon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5"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Box 1"/>
          <p:cNvSpPr/>
          <p:nvPr/>
        </p:nvSpPr>
        <p:spPr>
          <a:xfrm>
            <a:off x="914400" y="20574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W,  LET’S FOCUS ON SPECIFIC CLASSIFC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TYPES OF CLAIMS.</a:t>
            </a:r>
            <a:endParaRPr b="0" lang="en-US" sz="2400" spc="-1" strike="noStrike">
              <a:solidFill>
                <a:srgbClr val="000000"/>
              </a:solidFill>
              <a:latin typeface="Arial"/>
            </a:endParaRPr>
          </a:p>
        </p:txBody>
      </p:sp>
      <p:pic>
        <p:nvPicPr>
          <p:cNvPr id="40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CAUSE AND EFFEC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DEFINITION OR FACT</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VALUE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POLICIES</a:t>
            </a:r>
            <a:endParaRPr b="0" lang="en-US" sz="2700" spc="-1" strike="noStrike">
              <a:solidFill>
                <a:srgbClr val="000000"/>
              </a:solidFill>
              <a:latin typeface="Lucida Sans Unicode"/>
            </a:endParaRPr>
          </a:p>
        </p:txBody>
      </p:sp>
      <p:pic>
        <p:nvPicPr>
          <p:cNvPr id="409" name="Title 1" descr=""/>
          <p:cNvPicPr/>
          <p:nvPr/>
        </p:nvPicPr>
        <p:blipFill>
          <a:blip r:embed="rId1"/>
          <a:stretch/>
        </p:blipFill>
        <p:spPr>
          <a:xfrm>
            <a:off x="201600" y="274680"/>
            <a:ext cx="8485200" cy="1243080"/>
          </a:xfrm>
          <a:prstGeom prst="rect">
            <a:avLst/>
          </a:prstGeom>
          <a:ln w="0">
            <a:noFill/>
          </a:ln>
        </p:spPr>
      </p:pic>
      <p:pic>
        <p:nvPicPr>
          <p:cNvPr id="410" name="Picture 5" descr="http://ts1.mm.bing.net/images/thumbnail.aspx?q=1052389089328&amp;id=79c0735a99a4949ae9a3671958981a25&amp;url=http%3a%2f%2fonecoolsite.files.wordpress.com%2f2008%2f07%2fevidence.jpg"/>
          <p:cNvPicPr/>
          <p:nvPr/>
        </p:nvPicPr>
        <p:blipFill>
          <a:blip r:embed="rId2"/>
          <a:stretch/>
        </p:blipFill>
        <p:spPr>
          <a:xfrm>
            <a:off x="4876920" y="1676520"/>
            <a:ext cx="3352680" cy="33526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10" descr="http://image.yaymicro.com/rz_1210x1210/0/6a4/eight-o-clock-6a4927.jpg"/>
          <p:cNvPicPr/>
          <p:nvPr/>
        </p:nvPicPr>
        <p:blipFill>
          <a:blip r:embed="rId1"/>
          <a:stretch/>
        </p:blipFill>
        <p:spPr>
          <a:xfrm>
            <a:off x="2057400" y="1371600"/>
            <a:ext cx="5257800" cy="462132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1"/>
          <p:cNvSpPr/>
          <p:nvPr/>
        </p:nvSpPr>
        <p:spPr>
          <a:xfrm>
            <a:off x="380880" y="83808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COUNTERCLAIMS negate the writer’s claim and suggest an opposing argument.</a:t>
            </a:r>
            <a:endParaRPr b="0" lang="en-US" sz="3600" spc="-1" strike="noStrike">
              <a:solidFill>
                <a:srgbClr val="000000"/>
              </a:solidFill>
              <a:latin typeface="Arial"/>
            </a:endParaRPr>
          </a:p>
        </p:txBody>
      </p:sp>
      <p:sp>
        <p:nvSpPr>
          <p:cNvPr id="413" name="Rectangle 4"/>
          <p:cNvSpPr/>
          <p:nvPr/>
        </p:nvSpPr>
        <p:spPr>
          <a:xfrm>
            <a:off x="990720" y="3124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 us focus on two claims and generate a possible counterclaim for each.</a:t>
            </a:r>
            <a:endParaRPr b="0" lang="en-US" sz="2400" spc="-1" strike="noStrike">
              <a:solidFill>
                <a:srgbClr val="000000"/>
              </a:solidFill>
              <a:latin typeface="Arial"/>
            </a:endParaRPr>
          </a:p>
        </p:txBody>
      </p:sp>
      <p:pic>
        <p:nvPicPr>
          <p:cNvPr id="414"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
          <p:cNvSpPr/>
          <p:nvPr/>
        </p:nvSpPr>
        <p:spPr>
          <a:xfrm>
            <a:off x="1066680" y="213372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though there are various factors that lead to Romeo’s and Juliet’s deaths, Friar Laurence primarily is the cause  of the two main characters’ tragic ending.</a:t>
            </a:r>
            <a:endParaRPr b="0" lang="en-US" sz="2400" spc="-1" strike="noStrike">
              <a:solidFill>
                <a:srgbClr val="000000"/>
              </a:solidFill>
              <a:latin typeface="Arial"/>
            </a:endParaRPr>
          </a:p>
        </p:txBody>
      </p:sp>
      <p:sp>
        <p:nvSpPr>
          <p:cNvPr id="416" name="TextBox 2"/>
          <p:cNvSpPr/>
          <p:nvPr/>
        </p:nvSpPr>
        <p:spPr>
          <a:xfrm>
            <a:off x="762120" y="10666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laim #1</a:t>
            </a:r>
            <a:endParaRPr b="0" lang="en-US" sz="2800" spc="-1" strike="noStrike">
              <a:solidFill>
                <a:srgbClr val="000000"/>
              </a:solidFill>
              <a:latin typeface="Arial"/>
            </a:endParaRPr>
          </a:p>
        </p:txBody>
      </p:sp>
      <p:pic>
        <p:nvPicPr>
          <p:cNvPr id="41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
          <p:cNvSpPr/>
          <p:nvPr/>
        </p:nvSpPr>
        <p:spPr>
          <a:xfrm>
            <a:off x="685800" y="18288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ugh The Highwayman’s life is spared, there are no “winners” in the Tim-Bess-Highwayman love triangle.</a:t>
            </a:r>
            <a:endParaRPr b="0" lang="en-US" sz="2400" spc="-1" strike="noStrike">
              <a:solidFill>
                <a:srgbClr val="000000"/>
              </a:solidFill>
              <a:latin typeface="Arial"/>
            </a:endParaRPr>
          </a:p>
        </p:txBody>
      </p:sp>
      <p:sp>
        <p:nvSpPr>
          <p:cNvPr id="419" name="TextBox 2"/>
          <p:cNvSpPr/>
          <p:nvPr/>
        </p:nvSpPr>
        <p:spPr>
          <a:xfrm>
            <a:off x="609480" y="914400"/>
            <a:ext cx="208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laim #2</a:t>
            </a:r>
            <a:endParaRPr b="0" lang="en-US" sz="2400" spc="-1" strike="noStrike">
              <a:solidFill>
                <a:srgbClr val="000000"/>
              </a:solidFill>
              <a:latin typeface="Arial"/>
            </a:endParaRPr>
          </a:p>
        </p:txBody>
      </p:sp>
      <p:pic>
        <p:nvPicPr>
          <p:cNvPr id="420"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ts2.mm.bing.net/images/thumbnail.aspx?q=994791135217&amp;id=e81b8cc8ad436e562023b25bf23ebaa5&amp;url=http%3a%2f%2fdavidmarxbookreviews.files.wordpress.com%2f2010%2f10%2fto_kill_a_mocking_bird.jpg"/>
          <p:cNvPicPr/>
          <p:nvPr/>
        </p:nvPicPr>
        <p:blipFill>
          <a:blip r:embed="rId1"/>
          <a:stretch/>
        </p:blipFill>
        <p:spPr>
          <a:xfrm>
            <a:off x="0" y="0"/>
            <a:ext cx="4162320" cy="2590920"/>
          </a:xfrm>
          <a:prstGeom prst="rect">
            <a:avLst/>
          </a:prstGeom>
          <a:ln w="0">
            <a:noFill/>
          </a:ln>
        </p:spPr>
      </p:pic>
      <p:pic>
        <p:nvPicPr>
          <p:cNvPr id="422" name="Picture 4" descr="http://ts1.mm.bing.net/images/thumbnail.aspx?q=1024785456312&amp;id=923032a31e2338e4ceb5ab5e45d88903&amp;url=http%3a%2f%2f3.bp.blogspot.com%2f_mk22HWN2b1c%2fTQYyhPL-qQI%2fAAAAAAAABMU%2fgpfsmFCbycU%2fs1600%2fCatcher-in-the-rye-red-cover.jpg"/>
          <p:cNvPicPr/>
          <p:nvPr/>
        </p:nvPicPr>
        <p:blipFill>
          <a:blip r:embed="rId2"/>
          <a:stretch/>
        </p:blipFill>
        <p:spPr>
          <a:xfrm>
            <a:off x="0" y="2362320"/>
            <a:ext cx="2514600" cy="2286000"/>
          </a:xfrm>
          <a:prstGeom prst="rect">
            <a:avLst/>
          </a:prstGeom>
          <a:ln w="0">
            <a:noFill/>
          </a:ln>
        </p:spPr>
      </p:pic>
      <p:pic>
        <p:nvPicPr>
          <p:cNvPr id="423" name="Picture 6" descr="http://ts1.mm.bing.net/images/thumbnail.aspx?q=1042244835100&amp;id=b0831d417fc181dfff5b2ea442bc8407&amp;url=http%3a%2f%2f3dwww.mobipocket.com%2feBooks%2fcover_remote%2fID1439%2fbook_dostoevskyCrime.jpg"/>
          <p:cNvPicPr/>
          <p:nvPr/>
        </p:nvPicPr>
        <p:blipFill>
          <a:blip r:embed="rId3"/>
          <a:stretch/>
        </p:blipFill>
        <p:spPr>
          <a:xfrm>
            <a:off x="7238880" y="0"/>
            <a:ext cx="1905120" cy="2895480"/>
          </a:xfrm>
          <a:prstGeom prst="rect">
            <a:avLst/>
          </a:prstGeom>
          <a:ln w="0">
            <a:noFill/>
          </a:ln>
        </p:spPr>
      </p:pic>
      <p:pic>
        <p:nvPicPr>
          <p:cNvPr id="424" name="Picture 8" descr="http://ts1.mm.bing.net/images/thumbnail.aspx?q=1023647292004&amp;id=2a5b3df3a5d2cb54679bdefcc0fcd34e&amp;url=http%3a%2f%2febooks-imgs.connect.com%2fproduct%2f400%2f000%2f000%2f000%2f000%2f223%2f115%2f400000000000000223115_s3.png"/>
          <p:cNvPicPr/>
          <p:nvPr/>
        </p:nvPicPr>
        <p:blipFill>
          <a:blip r:embed="rId4"/>
          <a:stretch/>
        </p:blipFill>
        <p:spPr>
          <a:xfrm>
            <a:off x="5181480" y="3962520"/>
            <a:ext cx="2362320" cy="2895480"/>
          </a:xfrm>
          <a:prstGeom prst="rect">
            <a:avLst/>
          </a:prstGeom>
          <a:ln w="0">
            <a:noFill/>
          </a:ln>
        </p:spPr>
      </p:pic>
      <p:pic>
        <p:nvPicPr>
          <p:cNvPr id="425" name="Picture 10" descr="http://ts2.mm.bing.net/images/thumbnail.aspx?q=1058416231445&amp;id=6d8ce8dbbe8f9c865cf117028961cc3b&amp;url=http%3a%2f%2fi1194.photobucket.com%2falbums%2faa366%2fjadena1%2fthe-most-dangerous-game-movie-poster-1020415061.jpg"/>
          <p:cNvPicPr/>
          <p:nvPr/>
        </p:nvPicPr>
        <p:blipFill>
          <a:blip r:embed="rId5"/>
          <a:stretch/>
        </p:blipFill>
        <p:spPr>
          <a:xfrm>
            <a:off x="3505320" y="0"/>
            <a:ext cx="2590560" cy="2590920"/>
          </a:xfrm>
          <a:prstGeom prst="rect">
            <a:avLst/>
          </a:prstGeom>
          <a:ln w="0">
            <a:noFill/>
          </a:ln>
        </p:spPr>
      </p:pic>
      <p:pic>
        <p:nvPicPr>
          <p:cNvPr id="426" name="Picture 12" descr="http://ts4.mm.bing.net/images/thumbnail.aspx?q=1024664274943&amp;id=66b5da0625839897d453532d25ba3cb3&amp;url=http%3a%2f%2fny-image2.etsy.com%2fil_fullxfull.201976878.jpg"/>
          <p:cNvPicPr/>
          <p:nvPr/>
        </p:nvPicPr>
        <p:blipFill>
          <a:blip r:embed="rId6"/>
          <a:stretch/>
        </p:blipFill>
        <p:spPr>
          <a:xfrm>
            <a:off x="5486400" y="0"/>
            <a:ext cx="2209680" cy="2514600"/>
          </a:xfrm>
          <a:prstGeom prst="rect">
            <a:avLst/>
          </a:prstGeom>
          <a:ln w="0">
            <a:noFill/>
          </a:ln>
        </p:spPr>
      </p:pic>
      <p:pic>
        <p:nvPicPr>
          <p:cNvPr id="427" name="Picture 14" descr="http://ts3.mm.bing.net/images/thumbnail.aspx?q=996187974030&amp;id=8ea118432c2e0b3ce05b4b72074b7400&amp;url=http%3a%2f%2fi.ebayimg.com%2f07%2f!BudPFSgBWk%7e%24(KGrHqYOKj!EvPqKF8ZdBM!bNLz2I!%7e%7e_3.JPG"/>
          <p:cNvPicPr/>
          <p:nvPr/>
        </p:nvPicPr>
        <p:blipFill>
          <a:blip r:embed="rId7"/>
          <a:stretch/>
        </p:blipFill>
        <p:spPr>
          <a:xfrm>
            <a:off x="2438280" y="2438280"/>
            <a:ext cx="2743200" cy="4419720"/>
          </a:xfrm>
          <a:prstGeom prst="rect">
            <a:avLst/>
          </a:prstGeom>
          <a:ln w="0">
            <a:noFill/>
          </a:ln>
        </p:spPr>
      </p:pic>
      <p:pic>
        <p:nvPicPr>
          <p:cNvPr id="428" name="Picture 16" descr="http://www.ebooknetworking.com/books/031/244/big0312446985.jpg"/>
          <p:cNvPicPr/>
          <p:nvPr/>
        </p:nvPicPr>
        <p:blipFill>
          <a:blip r:embed="rId8"/>
          <a:stretch/>
        </p:blipFill>
        <p:spPr>
          <a:xfrm>
            <a:off x="7315200" y="2604960"/>
            <a:ext cx="1828800" cy="4405320"/>
          </a:xfrm>
          <a:prstGeom prst="rect">
            <a:avLst/>
          </a:prstGeom>
          <a:ln w="0">
            <a:noFill/>
          </a:ln>
        </p:spPr>
      </p:pic>
      <p:pic>
        <p:nvPicPr>
          <p:cNvPr id="429" name="Picture 9" descr=""/>
          <p:cNvPicPr/>
          <p:nvPr/>
        </p:nvPicPr>
        <p:blipFill>
          <a:blip r:embed="rId9"/>
          <a:stretch/>
        </p:blipFill>
        <p:spPr>
          <a:xfrm>
            <a:off x="4572000" y="1752480"/>
            <a:ext cx="2730600" cy="2362320"/>
          </a:xfrm>
          <a:prstGeom prst="rect">
            <a:avLst/>
          </a:prstGeom>
          <a:ln w="0">
            <a:noFill/>
          </a:ln>
        </p:spPr>
      </p:pic>
      <p:pic>
        <p:nvPicPr>
          <p:cNvPr id="430" name="Picture 10" descr=""/>
          <p:cNvPicPr/>
          <p:nvPr/>
        </p:nvPicPr>
        <p:blipFill>
          <a:blip r:embed="rId10"/>
          <a:stretch/>
        </p:blipFill>
        <p:spPr>
          <a:xfrm>
            <a:off x="0" y="3505320"/>
            <a:ext cx="2908440" cy="335268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Diagram 3" descr=""/>
          <p:cNvPicPr/>
          <p:nvPr/>
        </p:nvPicPr>
        <p:blipFill>
          <a:blip r:embed="rId1"/>
          <a:stretch/>
        </p:blipFill>
        <p:spPr>
          <a:xfrm>
            <a:off x="1523880" y="914400"/>
            <a:ext cx="7089840" cy="44989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ea typeface="Times New Roman"/>
              </a:rPr>
              <a:t>The CCR anchor standards ensure that students are college and career ready upon graduation. </a:t>
            </a: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176040" y="66600"/>
            <a:ext cx="8510760" cy="1792440"/>
          </a:xfrm>
          <a:prstGeom prst="rect">
            <a:avLst/>
          </a:prstGeom>
          <a:ln w="0">
            <a:noFill/>
          </a:ln>
        </p:spPr>
      </p:pic>
      <p:pic>
        <p:nvPicPr>
          <p:cNvPr id="382" name="Picture 5" descr="http://ts4.mm.bing.net/images/thumbnail.aspx?q=1051125224639&amp;id=a15d1f994257a603d369d7a49c5a49c8&amp;url=http%3a%2f%2fwestorlandonews.com%2fwp-content%2fuploads%2f2010%2f08%2fCU-Cap-and-Gown.jpg.jpeg"/>
          <p:cNvPicPr/>
          <p:nvPr/>
        </p:nvPicPr>
        <p:blipFill>
          <a:blip r:embed="rId2"/>
          <a:stretch/>
        </p:blipFill>
        <p:spPr>
          <a:xfrm>
            <a:off x="990720" y="3733920"/>
            <a:ext cx="2819160" cy="2133360"/>
          </a:xfrm>
          <a:prstGeom prst="rect">
            <a:avLst/>
          </a:prstGeom>
          <a:ln w="0">
            <a:noFill/>
          </a:ln>
        </p:spPr>
      </p:pic>
      <p:pic>
        <p:nvPicPr>
          <p:cNvPr id="383" name="Picture 7" descr="http://www.cm-mitchell.com/images/careers.jpg"/>
          <p:cNvPicPr/>
          <p:nvPr/>
        </p:nvPicPr>
        <p:blipFill>
          <a:blip r:embed="rId3"/>
          <a:stretch/>
        </p:blipFill>
        <p:spPr>
          <a:xfrm>
            <a:off x="4572000" y="3809880"/>
            <a:ext cx="3581280" cy="2590920"/>
          </a:xfrm>
          <a:prstGeom prst="rect">
            <a:avLst/>
          </a:prstGeom>
          <a:ln w="0">
            <a:noFill/>
          </a:ln>
        </p:spPr>
      </p:pic>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Box 1"/>
          <p:cNvSpPr/>
          <p:nvPr/>
        </p:nvSpPr>
        <p:spPr>
          <a:xfrm>
            <a:off x="609480" y="2619360"/>
            <a:ext cx="8488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eople REALLY Write Argument Ess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Box 2"/>
          <p:cNvSpPr/>
          <p:nvPr/>
        </p:nvSpPr>
        <p:spPr>
          <a:xfrm>
            <a:off x="1666080" y="1047600"/>
            <a:ext cx="745164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ch Albom, is a contemporary writer who wrote </a:t>
            </a:r>
            <a:r>
              <a:rPr b="0" i="1" lang="en-US" sz="1800" spc="-1" strike="noStrike">
                <a:solidFill>
                  <a:srgbClr val="000000"/>
                </a:solidFill>
                <a:latin typeface="Arial"/>
              </a:rPr>
              <a:t>Tuesdays With Morr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on-fiction, secondary appropriate text</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ly Albom wrote an essay in the August 2011 </a:t>
            </a:r>
            <a:r>
              <a:rPr b="0" i="1" lang="en-US" sz="1800" spc="-1" strike="noStrike">
                <a:solidFill>
                  <a:srgbClr val="000000"/>
                </a:solidFill>
                <a:latin typeface="Arial"/>
              </a:rPr>
              <a:t>Parade</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azine about how the purpose for summer vacations for child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changed from when he was a chi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4" name="Picture 4" descr=""/>
          <p:cNvPicPr/>
          <p:nvPr/>
        </p:nvPicPr>
        <p:blipFill>
          <a:blip r:embed="rId1"/>
          <a:stretch/>
        </p:blipFill>
        <p:spPr>
          <a:xfrm>
            <a:off x="6324480" y="2971800"/>
            <a:ext cx="2552760" cy="28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Box 2"/>
          <p:cNvSpPr/>
          <p:nvPr/>
        </p:nvSpPr>
        <p:spPr>
          <a:xfrm>
            <a:off x="304920" y="30492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Joys of Summer” by Mitch Albom  August 7, 2011</a:t>
            </a:r>
            <a:endParaRPr b="0" lang="en-US" sz="2800" spc="-1" strike="noStrike">
              <a:solidFill>
                <a:srgbClr val="000000"/>
              </a:solidFill>
              <a:latin typeface="Arial"/>
            </a:endParaRPr>
          </a:p>
        </p:txBody>
      </p:sp>
      <p:sp>
        <p:nvSpPr>
          <p:cNvPr id="436" name="TextBox 4"/>
          <p:cNvSpPr/>
          <p:nvPr/>
        </p:nvSpPr>
        <p:spPr>
          <a:xfrm>
            <a:off x="2070000" y="1793880"/>
            <a:ext cx="71089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us look at Albom’s essay which addresses summer va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how the concept of summer vacations as “down time” is noth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 memory. No, the essay is not labeled “an argument essay,” bu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riter does all that we want our students to be able to do up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uation from high school:  states his claim, provides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uses examples to support his claim (although limi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necdotal evidence), and addresses counterclaims</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k to the actual essay, which appeared in </a:t>
            </a:r>
            <a:r>
              <a:rPr b="0" i="1" lang="en-US" sz="1800" spc="-1" strike="noStrike">
                <a:solidFill>
                  <a:srgbClr val="000000"/>
                </a:solidFill>
                <a:latin typeface="Arial"/>
              </a:rPr>
              <a:t>Parade magaz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Arial"/>
                <a:hlinkClick r:id="rId1"/>
              </a:rPr>
              <a:t>The Joys of Summer, August 7, 20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Box 1"/>
          <p:cNvSpPr/>
          <p:nvPr/>
        </p:nvSpPr>
        <p:spPr>
          <a:xfrm>
            <a:off x="2391120" y="2158920"/>
            <a:ext cx="6292080" cy="16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ch Albom’s essay </a:t>
            </a:r>
            <a:r>
              <a:rPr b="0" i="1" lang="en-US" sz="2800" spc="-1" strike="noStrike">
                <a:solidFill>
                  <a:srgbClr val="000000"/>
                </a:solidFill>
                <a:latin typeface="Arial"/>
              </a:rPr>
              <a:t>is a </a:t>
            </a:r>
            <a:r>
              <a:rPr b="1" i="1" lang="en-US" sz="2800" spc="-1" strike="noStrike">
                <a:solidFill>
                  <a:srgbClr val="000000"/>
                </a:solidFill>
                <a:latin typeface="Arial"/>
              </a:rPr>
              <a:t>response to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ersonal observat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8" name="TextBox 2"/>
          <p:cNvSpPr/>
          <p:nvPr/>
        </p:nvSpPr>
        <p:spPr>
          <a:xfrm>
            <a:off x="228600" y="762120"/>
            <a:ext cx="7821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Box 1"/>
          <p:cNvSpPr/>
          <p:nvPr/>
        </p:nvSpPr>
        <p:spPr>
          <a:xfrm>
            <a:off x="457200" y="380880"/>
            <a:ext cx="78883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information</a:t>
            </a:r>
            <a:r>
              <a:rPr b="0" lang="en-US" sz="2400" spc="-1" strike="noStrike">
                <a:solidFill>
                  <a:srgbClr val="000000"/>
                </a:solidFill>
                <a:latin typeface="Arial"/>
              </a:rPr>
              <a:t>: How children spent their summer vacation in the past and how they spend their summer vacation 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Box 1"/>
          <p:cNvSpPr/>
          <p:nvPr/>
        </p:nvSpPr>
        <p:spPr>
          <a:xfrm>
            <a:off x="457200" y="380880"/>
            <a:ext cx="78883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laim:  I can make the case for doing nothing all summer</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Evidence</a:t>
            </a:r>
            <a:r>
              <a:rPr b="0" lang="en-US" sz="2400" spc="-1" strike="noStrike">
                <a:solidFill>
                  <a:srgbClr val="2da2bf"/>
                </a:solidFill>
                <a:latin typeface="Arial"/>
              </a:rPr>
              <a:t>: </a:t>
            </a:r>
            <a:r>
              <a:rPr b="0" lang="en-US" sz="2400" spc="-1" strike="noStrike">
                <a:solidFill>
                  <a:srgbClr val="000000"/>
                </a:solidFill>
                <a:latin typeface="Arial"/>
              </a:rPr>
              <a:t>“…there was a</a:t>
            </a:r>
            <a:r>
              <a:rPr b="1" lang="en-US" sz="2400" spc="-1" strike="noStrike">
                <a:solidFill>
                  <a:srgbClr val="000000"/>
                </a:solidFill>
                <a:latin typeface="Arial"/>
              </a:rPr>
              <a:t> freedom </a:t>
            </a:r>
            <a:r>
              <a:rPr b="0" lang="en-US" sz="2400" spc="-1" strike="noStrike">
                <a:solidFill>
                  <a:srgbClr val="000000"/>
                </a:solidFill>
                <a:latin typeface="Arial"/>
              </a:rPr>
              <a:t>that today’s kids don’t enjoy.” </a:t>
            </a:r>
            <a:r>
              <a:rPr b="1" lang="en-US" sz="2400" spc="-1" strike="noStrike">
                <a:solidFill>
                  <a:srgbClr val="000000"/>
                </a:solidFill>
                <a:latin typeface="Arial"/>
              </a:rPr>
              <a:t>imagin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Evidence</a:t>
            </a:r>
            <a:r>
              <a:rPr b="0" lang="en-US" sz="2400" spc="-1" strike="noStrike">
                <a:solidFill>
                  <a:srgbClr val="2da2bf"/>
                </a:solidFill>
                <a:latin typeface="Arial"/>
              </a:rPr>
              <a:t>: </a:t>
            </a:r>
            <a:r>
              <a:rPr b="0" lang="en-US" sz="2400" spc="-1" strike="noStrike">
                <a:solidFill>
                  <a:srgbClr val="000000"/>
                </a:solidFill>
                <a:latin typeface="Arial"/>
              </a:rPr>
              <a:t>“Sometimes doing nothing is </a:t>
            </a:r>
            <a:r>
              <a:rPr b="1" lang="en-US" sz="2400" spc="-1" strike="noStrike">
                <a:solidFill>
                  <a:srgbClr val="000000"/>
                </a:solidFill>
                <a:latin typeface="Arial"/>
              </a:rPr>
              <a:t>doing someth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sup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Box 1"/>
          <p:cNvSpPr/>
          <p:nvPr/>
        </p:nvSpPr>
        <p:spPr>
          <a:xfrm>
            <a:off x="304920" y="457200"/>
            <a:ext cx="1008216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ounterclaim</a:t>
            </a:r>
            <a:r>
              <a:rPr b="1" lang="en-US" sz="1800" spc="-1" strike="noStrike">
                <a:solidFill>
                  <a:srgbClr val="000000"/>
                </a:solidFill>
                <a:latin typeface="Arial"/>
              </a:rPr>
              <a:t>: </a:t>
            </a:r>
            <a:r>
              <a:rPr b="0" lang="en-US" sz="1800" spc="-1" strike="noStrike">
                <a:solidFill>
                  <a:srgbClr val="000000"/>
                </a:solidFill>
                <a:latin typeface="Arial"/>
              </a:rPr>
              <a:t>Now, I know what you’re thinking: “If we don’t enroll our kids in 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all they’ll do is text. Or watch TV (and text) or talk on the phone (and tex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you could prevent that. You could take away the cell phone, the iP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Nintendo. Then see if you can get your kid to do four things in a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0" lang="en-US" sz="1800" spc="-1" strike="noStrike">
                <a:solidFill>
                  <a:srgbClr val="000000"/>
                </a:solidFill>
                <a:latin typeface="Arial"/>
              </a:rPr>
              <a:t> Have a face-to-face conversation with a friend.</a:t>
            </a:r>
            <a:br>
              <a:rPr sz="1800"/>
            </a:br>
            <a:br>
              <a:rPr sz="1800"/>
            </a:br>
            <a:r>
              <a:rPr b="1" lang="en-US" sz="1800" spc="-1" strike="noStrike">
                <a:solidFill>
                  <a:srgbClr val="000000"/>
                </a:solidFill>
                <a:latin typeface="Arial"/>
              </a:rPr>
              <a:t>2.</a:t>
            </a:r>
            <a:r>
              <a:rPr b="0" lang="en-US" sz="1800" spc="-1" strike="noStrike">
                <a:solidFill>
                  <a:srgbClr val="000000"/>
                </a:solidFill>
                <a:latin typeface="Arial"/>
              </a:rPr>
              <a:t> Read something.</a:t>
            </a:r>
            <a:br>
              <a:rPr sz="1800"/>
            </a:br>
            <a:br>
              <a:rPr sz="1800"/>
            </a:br>
            <a:r>
              <a:rPr b="1" lang="en-US" sz="1800" spc="-1" strike="noStrike">
                <a:solidFill>
                  <a:srgbClr val="000000"/>
                </a:solidFill>
                <a:latin typeface="Arial"/>
              </a:rPr>
              <a:t>3. </a:t>
            </a:r>
            <a:r>
              <a:rPr b="0" lang="en-US" sz="1800" spc="-1" strike="noStrike">
                <a:solidFill>
                  <a:srgbClr val="000000"/>
                </a:solidFill>
                <a:latin typeface="Arial"/>
              </a:rPr>
              <a:t>Build something.</a:t>
            </a:r>
            <a:br>
              <a:rPr sz="1800"/>
            </a:br>
            <a:br>
              <a:rPr sz="1800"/>
            </a:br>
            <a:r>
              <a:rPr b="1" lang="en-US" sz="1800" spc="-1" strike="noStrike">
                <a:solidFill>
                  <a:srgbClr val="000000"/>
                </a:solidFill>
                <a:latin typeface="Arial"/>
              </a:rPr>
              <a:t>4. </a:t>
            </a:r>
            <a:r>
              <a:rPr b="0" lang="en-US" sz="1800" spc="-1" strike="noStrike">
                <a:solidFill>
                  <a:srgbClr val="000000"/>
                </a:solidFill>
                <a:latin typeface="Arial"/>
              </a:rPr>
              <a:t>Get wet. A pool. A hose. A sprinkler. Whatev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Box 1"/>
          <p:cNvSpPr/>
          <p:nvPr/>
        </p:nvSpPr>
        <p:spPr>
          <a:xfrm>
            <a:off x="1047600" y="457200"/>
            <a:ext cx="7410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e Joys of Summer” by Mitch Albom  August 7, 201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a2bf"/>
                </a:solidFill>
                <a:latin typeface="Arial"/>
              </a:rPr>
              <a:t>Concl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at’s really enough. Before you can blink, it’s the school year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very day is jammed with sports, AP classes, student government, and field trips.</a:t>
            </a:r>
            <a:br>
              <a:rPr sz="1800"/>
            </a:br>
            <a:br>
              <a:rPr sz="1800"/>
            </a:br>
            <a:r>
              <a:rPr b="0" lang="en-US" sz="1800" spc="-1" strike="noStrike">
                <a:solidFill>
                  <a:srgbClr val="000000"/>
                </a:solidFill>
                <a:latin typeface="Arial"/>
              </a:rPr>
              <a:t>That’s fine for September. But if September is no different from June, July, 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gust, then we’re doing something wrong. And our kids are miss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thing prec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Box 1"/>
          <p:cNvSpPr/>
          <p:nvPr/>
        </p:nvSpPr>
        <p:spPr>
          <a:xfrm>
            <a:off x="1047600" y="457200"/>
            <a:ext cx="7410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Core State Standards, E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ard County Sch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2" descr="Macintosh HD:Users:Arden:Desktop:Screen shot 2011-05-31 at 2.25.24 PM.png"/>
          <p:cNvPicPr/>
          <p:nvPr/>
        </p:nvPicPr>
        <p:blipFill>
          <a:blip r:embed="rId2"/>
          <a:stretch/>
        </p:blipFill>
        <p:spPr>
          <a:xfrm>
            <a:off x="2057400" y="1295280"/>
            <a:ext cx="6172200" cy="5105520"/>
          </a:xfrm>
          <a:prstGeom prst="rect">
            <a:avLst/>
          </a:prstGeom>
          <a:ln w="0">
            <a:noFill/>
          </a:ln>
        </p:spPr>
      </p:pic>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0" y="1447920"/>
            <a:ext cx="8686800" cy="455904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explanatory thesis explai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s, or clarifies a mai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oint.</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 argument thesis, called a claim,</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arrants debate and may or may not be controversial</a:t>
            </a:r>
            <a:r>
              <a:rPr b="0" lang="en-US" sz="2700" spc="-1" strike="noStrike">
                <a:solidFill>
                  <a:srgbClr val="000000"/>
                </a:solidFill>
                <a:latin typeface="Lucida Sans Unicode"/>
              </a:rPr>
              <a:t> </a:t>
            </a:r>
            <a:r>
              <a:rPr b="0" lang="en-US" sz="2400" spc="-1" strike="noStrike">
                <a:solidFill>
                  <a:srgbClr val="000000"/>
                </a:solidFill>
                <a:latin typeface="Lucida Sans Unicode"/>
              </a:rPr>
              <a:t>but is always </a:t>
            </a:r>
            <a:r>
              <a:rPr b="1" lang="en-US" sz="4800" spc="-1" strike="noStrike">
                <a:solidFill>
                  <a:srgbClr val="2da2bf"/>
                </a:solidFill>
                <a:latin typeface="Lucida Sans Unicode"/>
              </a:rPr>
              <a:t>debatable</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304920" y="274680"/>
            <a:ext cx="8454960" cy="1255680"/>
          </a:xfrm>
          <a:prstGeom prst="rect">
            <a:avLst/>
          </a:prstGeom>
          <a:ln w="0">
            <a:noFill/>
          </a:ln>
        </p:spPr>
      </p:pic>
      <p:pic>
        <p:nvPicPr>
          <p:cNvPr id="389" name="Picture 5" descr="http://catpages.nwmissouri.edu/m/WC/umbrella.JPG"/>
          <p:cNvPicPr/>
          <p:nvPr/>
        </p:nvPicPr>
        <p:blipFill>
          <a:blip r:embed="rId2"/>
          <a:stretch/>
        </p:blipFill>
        <p:spPr>
          <a:xfrm>
            <a:off x="5410080" y="1523880"/>
            <a:ext cx="3733920" cy="1981440"/>
          </a:xfrm>
          <a:prstGeom prst="rect">
            <a:avLst/>
          </a:prstGeom>
          <a:ln w="0">
            <a:noFill/>
          </a:ln>
        </p:spPr>
      </p:pic>
      <p:pic>
        <p:nvPicPr>
          <p:cNvPr id="390" name="Picture 7" descr="http://ts1.mm.bing.net/images/thumbnail.aspx?q=1050843619344&amp;id=ffba97560fd96321be6385cb74f724d3&amp;url=http%3a%2f%2fwww.savagechickens.com%2fimages%2fchickendifficult.jpg"/>
          <p:cNvPicPr/>
          <p:nvPr/>
        </p:nvPicPr>
        <p:blipFill>
          <a:blip r:embed="rId3"/>
          <a:stretch/>
        </p:blipFill>
        <p:spPr>
          <a:xfrm>
            <a:off x="6477120" y="4648320"/>
            <a:ext cx="2666880" cy="19810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2819520" y="121932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YES OR NO?????</a:t>
            </a:r>
            <a:endParaRPr b="0" lang="en-US" sz="3600" spc="-1" strike="noStrike">
              <a:solidFill>
                <a:srgbClr val="000000"/>
              </a:solidFill>
              <a:latin typeface="Arial"/>
            </a:endParaRPr>
          </a:p>
        </p:txBody>
      </p:sp>
      <p:sp>
        <p:nvSpPr>
          <p:cNvPr id="392" name="TextBox 3"/>
          <p:cNvSpPr/>
          <p:nvPr/>
        </p:nvSpPr>
        <p:spPr>
          <a:xfrm>
            <a:off x="838080" y="2362320"/>
            <a:ext cx="8521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Read each statement closely to determine if the statement is an argument claim.</a:t>
            </a:r>
            <a:endParaRPr b="0" lang="en-US" sz="4000" spc="-1" strike="noStrike">
              <a:solidFill>
                <a:srgbClr val="000000"/>
              </a:solidFill>
              <a:latin typeface="Arial"/>
            </a:endParaRPr>
          </a:p>
        </p:txBody>
      </p:sp>
      <p:pic>
        <p:nvPicPr>
          <p:cNvPr id="393"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
          <p:cNvSpPr/>
          <p:nvPr/>
        </p:nvSpPr>
        <p:spPr>
          <a:xfrm>
            <a:off x="685800" y="1143000"/>
            <a:ext cx="6858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UDENT READ </a:t>
            </a:r>
            <a:r>
              <a:rPr b="0" i="1" lang="en-US" sz="2400" spc="-1" strike="noStrike">
                <a:solidFill>
                  <a:srgbClr val="000000"/>
                </a:solidFill>
                <a:latin typeface="Times New Roman"/>
                <a:ea typeface="Times New Roman"/>
              </a:rPr>
              <a:t>NATIVE SON</a:t>
            </a:r>
            <a:r>
              <a:rPr b="0" lang="en-US" sz="2400" spc="-1" strike="noStrike">
                <a:solidFill>
                  <a:srgbClr val="000000"/>
                </a:solidFill>
                <a:latin typeface="Times New Roman"/>
                <a:ea typeface="Times New Roman"/>
              </a:rPr>
              <a:t>, A NOVEL BY RICHARD WRIGHT, AND SHE GENERATED A 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Times New Roman"/>
                <a:ea typeface="Times New Roman"/>
              </a:rPr>
              <a:t>Although Bigger Thomas faces many obstacles as he attempts to “find his path in life,” societal practices actually dictate what he can and cannot do and sets Bigger up for failure from the time he is born.</a:t>
            </a:r>
            <a:endParaRPr b="0" lang="en-US" sz="2400" spc="-1" strike="noStrike">
              <a:solidFill>
                <a:srgbClr val="000000"/>
              </a:solidFill>
              <a:latin typeface="Arial"/>
            </a:endParaRPr>
          </a:p>
        </p:txBody>
      </p:sp>
      <p:pic>
        <p:nvPicPr>
          <p:cNvPr id="395"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1"/>
          <p:cNvSpPr/>
          <p:nvPr/>
        </p:nvSpPr>
        <p:spPr>
          <a:xfrm>
            <a:off x="380880" y="2057400"/>
            <a:ext cx="8458200" cy="155700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ES, this is a debatable statement because it can be argued that Bigger Thomas is in control of his destiny and not society, or one might argue that Bigger Thomas’s destiny is a result of both individual choice and societal practices. </a:t>
            </a:r>
            <a:endParaRPr b="0" lang="en-US" sz="2400" spc="-1" strike="noStrike">
              <a:solidFill>
                <a:srgbClr val="000000"/>
              </a:solidFill>
              <a:latin typeface="Arial"/>
            </a:endParaRPr>
          </a:p>
        </p:txBody>
      </p:sp>
      <p:pic>
        <p:nvPicPr>
          <p:cNvPr id="397"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
          <p:cNvSpPr/>
          <p:nvPr/>
        </p:nvSpPr>
        <p:spPr>
          <a:xfrm>
            <a:off x="1143000" y="990720"/>
            <a:ext cx="6858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TUDENT READ “DREAMS” AND “DREAM DEFERRED” BY LANGSTON HUGHES, AND HE GENERATED THIS THES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aecd"/>
                </a:solidFill>
                <a:latin typeface="Times New Roman"/>
                <a:ea typeface="Times New Roman"/>
              </a:rPr>
              <a:t>Langston Hughes uses metaphors to illustrate how having to postpone one’s wishes or desires can lead to destruction.</a:t>
            </a:r>
            <a:endParaRPr b="0" lang="en-US" sz="2400" spc="-1" strike="noStrike">
              <a:solidFill>
                <a:srgbClr val="000000"/>
              </a:solidFill>
              <a:latin typeface="Arial"/>
            </a:endParaRPr>
          </a:p>
        </p:txBody>
      </p:sp>
      <p:pic>
        <p:nvPicPr>
          <p:cNvPr id="399"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Box 1"/>
          <p:cNvSpPr/>
          <p:nvPr/>
        </p:nvSpPr>
        <p:spPr>
          <a:xfrm>
            <a:off x="533520" y="2286000"/>
            <a:ext cx="7696080" cy="1922760"/>
          </a:xfrm>
          <a:prstGeom prst="rect">
            <a:avLst/>
          </a:prstGeom>
          <a:noFill/>
          <a:ln w="9360">
            <a:solidFill>
              <a:srgbClr val="c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this is not a debatable statement but a FACT since Langston does indeed use metaphors to illustrate that one’s wishes and desires can lead to destruction.  The statement would actually work well as a thesis for an </a:t>
            </a:r>
            <a:r>
              <a:rPr b="1" lang="en-US" sz="2400" spc="-1" strike="noStrike">
                <a:solidFill>
                  <a:srgbClr val="000000"/>
                </a:solidFill>
                <a:latin typeface="Times New Roman"/>
                <a:ea typeface="Times New Roman"/>
              </a:rPr>
              <a:t>explanatory</a:t>
            </a:r>
            <a:r>
              <a:rPr b="0" lang="en-US" sz="2400" spc="-1" strike="noStrike">
                <a:solidFill>
                  <a:srgbClr val="000000"/>
                </a:solidFill>
                <a:latin typeface="Times New Roman"/>
                <a:ea typeface="Times New Roman"/>
              </a:rPr>
              <a:t> response.</a:t>
            </a:r>
            <a:endParaRPr b="0" lang="en-US" sz="2400" spc="-1" strike="noStrike">
              <a:solidFill>
                <a:srgbClr val="000000"/>
              </a:solidFill>
              <a:latin typeface="Arial"/>
            </a:endParaRPr>
          </a:p>
        </p:txBody>
      </p:sp>
      <p:pic>
        <p:nvPicPr>
          <p:cNvPr id="401" name="Picture 2" descr="Macintosh HD:Users:Arden:Desktop:Screen shot 2011-05-31 at 2.25.24 PM.png"/>
          <p:cNvPicPr/>
          <p:nvPr/>
        </p:nvPicPr>
        <p:blipFill>
          <a:blip r:embed="rId1"/>
          <a:stretch/>
        </p:blipFill>
        <p:spPr>
          <a:xfrm>
            <a:off x="6477120" y="4724280"/>
            <a:ext cx="2666880" cy="2133720"/>
          </a:xfrm>
          <a:prstGeom prst="rect">
            <a:avLst/>
          </a:prstGeom>
          <a:ln w="0">
            <a:noFill/>
          </a:ln>
        </p:spPr>
      </p:pic>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8T12:58:17Z</dcterms:created>
  <dc:creator>.</dc:creator>
  <dc:description/>
  <dc:language>en-US</dc:language>
  <cp:lastModifiedBy>ACS</cp:lastModifiedBy>
  <cp:lastPrinted>2011-08-08T16:11:18Z</cp:lastPrinted>
  <dcterms:modified xsi:type="dcterms:W3CDTF">2013-05-21T20:38:31Z</dcterms:modified>
  <cp:revision>101</cp:revision>
  <dc:subject/>
  <dc:title>ARGUMENT WRITING</dc:title>
</cp:coreProperties>
</file>